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507-3E5D-4E63-96E3-E1E610C6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113-DBEA-4E3A-8200-0B600051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E53-4AFA-4598-B96A-737F9D98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01F-ADC1-4987-8B30-D81747CA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8C0-CD37-4F03-BC2E-F252F13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BA6-EDF6-4C95-BF21-726A78E9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3E8-ED7D-4B97-921B-60A61805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21F-BEC0-47B6-8C21-24B8F1B3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82A-5C89-4B3F-994B-1A79F0D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28C-7B77-4700-A09A-C3A2FF0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E9A-60CC-4AED-9ADA-9872CED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9EB-D914-418A-8200-FCE192E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82FE-0C73-475F-98A1-298ECF612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6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4868640"/>
            <a:ext cx="2736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四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052640"/>
            <a:ext cx="6272280" cy="25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讨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坏习惯耽误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946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董学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76720" y="1535040"/>
            <a:ext cx="54100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浅谈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1152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9920" cy="442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惯的重要性和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2565000"/>
            <a:ext cx="1076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李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1076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郑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4835520" cy="39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efefe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中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1003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天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2347920"/>
            <a:ext cx="533880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acecd1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惯主宰人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4720" y="2852640"/>
            <a:ext cx="91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张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是学习习惯的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5122800" cy="391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1600" y="2421000"/>
            <a:ext cx="91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郑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家长心中的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628920" y="2000160"/>
            <a:ext cx="5334120" cy="20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家长的心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孙欣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300640"/>
          </a:xfrm>
          <a:prstGeom prst="rect">
            <a:avLst/>
          </a:prstGeom>
          <a:solidFill>
            <a:srgbClr val="f0f8a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的你，热情、大方、有礼貌、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最大的困难就是战胜自己，克制自己学习以外的欲望（如打篮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议你集中精力听讲，把当堂课老师讲的内容理解吃透，胜过在家一晚上自学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嘱托：路是自己一步一个脚印走出来的，现在的脚印踏的深，付出的多，你今后的人生路就明朗，学习不是为老师、家长学的，要明白这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景剧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《姐妹的一天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张艳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关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严倩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董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编剧：贺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天晓家长的话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习不明确，没有目标，你就不能进步，自己对自己要求太低，就没有动力，无计划、无目的学习，永远不会有理想的成绩。只有目标清晰，努力进取，坚持不懈，才能成功，才会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送你一句话：千里之行，始于足下。坚持数年，谁人都可赶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班争光，是每位同学的责任，有以德成绩就是为办争光的最好礼物。心里有这份责任，你就会进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愿每位同学，都能取得好成绩，为班争光，努力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顾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，你是一个好孩子，一个很有潜力和发展前途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俗话说：“吃一堑，长一智”无论是学习上，还是其他方面，受到挫折，走一点弯路都不怕，只要自己认真总结经验教训，对的就坚持，错的就改正，这样就会向胜利的彼岸前进，成功会属于你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刘龑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0f8a6"/>
          </a:solidFill>
          <a:ln w="284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借这次主题班会的机会对你说：孩子，我相信你是优秀的，我们不怕犯错误，但要勇于改掉错误，我相信这问题你一定能解决好的。老师说的好：高一正是打基础的时候，在我们的日常生活和学习中，就要养成良好的生活和学习习惯，努力提高自己的综合素质和做人的标准，尊重他人，做一个适应新时代发展的人，为祖国的未来贡献你的一份光和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艳阳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于每个人成长经历各异，容易形成不同的生活、学习习惯。有了良好的生活、学习习惯会使工作、学习有章法，做到忙而不乱，有条不紊；而有的人缺乏良好的习惯，在实际生活工作中，往往是顾此失彼。因此，习惯问题不可小看，良好习惯的养成，对人的一生有着重要、深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42920" y="2205000"/>
            <a:ext cx="66978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们的心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75720" y="981000"/>
            <a:ext cx="1399320" cy="547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好习惯坏习惯终身相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3760" y="981000"/>
            <a:ext cx="1277640" cy="540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习惯好习惯坏决定终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04640"/>
            <a:ext cx="33130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扬长避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70400" y="1341360"/>
            <a:ext cx="1642680" cy="4608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拉晚不睡上课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9480" y="1268280"/>
            <a:ext cx="1642680" cy="47530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成绩不升反倒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6280"/>
            <a:ext cx="3240000" cy="916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调整作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3400" y="765000"/>
            <a:ext cx="1399320" cy="5759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你抄我我抄他互相帮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8840" y="765000"/>
            <a:ext cx="1399320" cy="5616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影响我影响他风气败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260280"/>
            <a:ext cx="266364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树立学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1773360"/>
            <a:ext cx="748980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157720"/>
            <a:ext cx="43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高一四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班委会、团支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8ee9c"/>
            </a:gs>
            <a:gs pos="50000">
              <a:srgbClr val="fefefe"/>
            </a:gs>
            <a:gs pos="100000">
              <a:srgbClr val="98ee9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19700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概念：习惯是一种稳定的、经常的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重复的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565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自动性、稳定性、重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伴随着较强的情绪体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可塑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653000"/>
            <a:ext cx="626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良好习惯：从现在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件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位同学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我们身边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000" y="907920"/>
            <a:ext cx="66963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结语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吃饭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好的孩子先洗手，再用消毒纸巾擦双手。吃饭时左手扶饭盒右手拿勺，动作轻盈，细嚼慢咽，口中无声，用餐后用纸巾将桌子擦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不好的孩子从操场跑回来，在老师的督促下跑到水龙头前草草冲几下，将手在身上一抹就吃饭，左手垂在身下，吃饭时狼吞虎咽，口中还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好的孩子发现做错题找出橡皮轻轻擦掉，再将橡皮沫擦干净。做完后，从头到尾检查一遍，然后一切物品归位，整齐有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不好的孩子发现做错题，手指蘸口水用力擦拭，或用笔在错处涂黑。做完作业后用品乱扔，一切玩完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好的孩子每晚睡觉，衣服叠放整齐。早晨随手就能拿到。洗漱后背起书包就可以上学，要求带的东西一样不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每晚都盯着动画片，大人不催决不睡觉，衣物脱下后随手堆放。早起后找不到衣物，匆匆忙忙收拾书包赶去学校，才发现作业没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书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好的孩子，老师要求的课文背诵都能熟练背诵，再练习默写，不会的易错的加强记忆反复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达到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，老师要求默写课文中的某段，先顾玩儿，第二天起床后才想起老师布置的作业，顾不上洗漱和吃早饭，囫囵吞枣诵读几遍，结果只能是应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152388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老师的希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ff99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我们的想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6:21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5:27Z</dcterms:modified>
  <cp:revision>56</cp:revision>
  <dc:subject>主题班会课件(分28大类): http://shop62905894.taobao.com</dc:subject>
  <dc:title>主题班会课件(分28大类): http://shop62905894.taobao.com</dc:title>
</cp:coreProperties>
</file>